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AD2-7A52-45FC-B0F1-C9397183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057-5798-4CC4-A278-DCD45FA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5E8-CE55-4BC7-B3AC-75984DE1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985-25A5-46C8-9048-906C1B8F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223-20C9-4C0D-A604-FCD7659B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435-8B33-4B84-A19E-CAF68385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DD29-87AB-405B-A3BB-F33E6E94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A5F6-91AB-4F01-B5BE-0F212BEC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179C-D9E3-4F89-98CF-8A4BF84F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F435-978A-4F80-9113-2FB7C2F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D29-850C-4758-8DEB-9B63226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93-1960-42CC-8B03-31369506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A17-0466-4707-BC4E-417FCDD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23D2-6575-41BA-8889-D1C38B1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72E-5523-4A18-A02F-EC61CD4A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3AF-6F38-4376-A589-4D358D35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4A1B-18E1-476A-8C7F-268AD48D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0BA-4B20-43CB-A614-0FD5085A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8FA-6AC6-461B-B64F-D933B5D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614-3247-45B7-84EA-69DDEB43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B22-0DDB-4DFF-9558-48F84D65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1A6-4579-4D8D-8993-A26DAB7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D7D-5EA1-4DD7-BCF4-9F505AF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1EC-AC21-4EF0-973D-A043178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A1A-DF0F-49D4-9B55-11AE1E7CF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7A5-F579-4BB7-A5FB-35DF4D27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dealspain.com/" TargetMode="External"/><Relationship Id="rId3" Type="http://schemas.openxmlformats.org/officeDocument/2006/relationships/hyperlink" Target="http://spanishunlimited.com/" TargetMode="External"/><Relationship Id="rId4" Type="http://schemas.openxmlformats.org/officeDocument/2006/relationships/hyperlink" Target="http://newsimg.bbc.co.uk/media/images/39249000/jpg/_39249664_bullfightap203.jpg" TargetMode="External"/><Relationship Id="rId5" Type="http://schemas.openxmlformats.org/officeDocument/2006/relationships/hyperlink" Target="http://www.all-creatures.org/anex/cattle-bf-21.jpg" TargetMode="External"/><Relationship Id="rId6" Type="http://schemas.openxmlformats.org/officeDocument/2006/relationships/hyperlink" Target="http://www.world-guides.com/images/ibiza/ibiza_nightclubs3.jpg" TargetMode="External"/><Relationship Id="rId7" Type="http://schemas.openxmlformats.org/officeDocument/2006/relationships/hyperlink" Target="http://www.nerjarentals.info/nerja/img/nerja-nightlife.jpg" TargetMode="External"/><Relationship Id="rId8" Type="http://schemas.openxmlformats.org/officeDocument/2006/relationships/hyperlink" Target="http://www.travelinstyle.com/spain/Copy%20of%20spain2/EspanaImageSml/Flamenco.jpg" TargetMode="External"/><Relationship Id="rId9" Type="http://schemas.openxmlformats.org/officeDocument/2006/relationships/hyperlink" Target="http://www.daydreamvillas.co.uk/valencia/fiestas_foto2.jpg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Cul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alie Singlet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menc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Spanish Tra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e: the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: the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tarra: guitar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f the Gyps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92200" y="4267080"/>
            <a:ext cx="4359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2"/>
              </a:rPr>
              <a:t>http://www.idealspa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3"/>
              </a:rPr>
              <a:t>http://spanishunlimit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4"/>
              </a:rPr>
              <a:t>http://newsimg.bbc.co.uk/media/images/39249000/jpg/_39249664_bullfightap20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5"/>
              </a:rPr>
              <a:t>http://www.all-creatures.org/anex/cattle-bf-2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6"/>
              </a:rPr>
              <a:t>http://www.world-guides.com/images/ibiza/ibiza_nightclubs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7"/>
              </a:rPr>
              <a:t>http://www.nerjarentals.info/nerja/img/nerja-nightlif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8"/>
              </a:rPr>
              <a:t>http://www.travelinstyle.com/spain/Copy%20of%20spain2/EspanaImageSml/Flamenco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9"/>
              </a:rPr>
              <a:t>http://www.daydreamvillas.co.uk/valencia/fiestas_foto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calaeditions.com/images/CG_F_Romantic%20Siest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ang.rice.edu/langmedia/collection_spanish/lm_spain/images/sp_greetings_t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vergreen-spain.com/images/currency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iomarseafood.com/images/feature/23_rio%2003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, conservative, sty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s wear 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are into designer w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m is “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kirts and swim-wear are frowned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2417760"/>
            <a:ext cx="42670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, substantial meals as opposed to gour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rano 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 delicacies (Pae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breakfast, light lunch, late evening m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366228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386000" y="4191120"/>
            <a:ext cx="2012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ey Mat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ajor credit cards are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laces have ATMs that allow you to withdraw cash with your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 Dollar = .77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5400" y="2133720"/>
            <a:ext cx="3084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orm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tings consist of a handshake and a kiss on both ch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men maintain longer eye contact with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is slow 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begins when the sun goe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3560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s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ully enjoy a siesta it is very important to have a good lunch with friends or/and rel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l siesta takes place in bed and in pyjamas, but a suitable sofa is also meant if a bed is not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is very important. A siesta should last between 15-30 minutes not m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't let anything disturb you. Siesta is quite a serious activity. Some people can't enjoy a siesta without tv or radio. If these kind of things help you to fall asleep, use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way to wake-up from a siesta is a delicate human voice. If you don't have anybody near, remember to use an alarm c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2782800"/>
            <a:ext cx="4267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ghtlif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ings start with el pa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life is lived in the str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 cafes and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clubs are the main attraction for tee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09760" cy="214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932120"/>
            <a:ext cx="36576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estas and Trad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own has their own cele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e national holidays such as Christmas, Easter, All Saint’s Day, 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of festivities are religiou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4960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llfigh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Sport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1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,000 bulls are killed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52880" y="4368960"/>
            <a:ext cx="36655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5:23Z</dcterms:created>
  <dc:creator>SingletonN</dc:creator>
  <dc:description/>
  <cp:keywords/>
  <dc:language>en-US</dc:language>
  <cp:lastModifiedBy>SingletonN</cp:lastModifiedBy>
  <dcterms:modified xsi:type="dcterms:W3CDTF">2007-02-05T16:49:27Z</dcterms:modified>
  <cp:revision>37</cp:revision>
  <dc:subject/>
  <dc:title>Spanish Cul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